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944-57DE-4B97-859E-7F9740C7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632-C4CE-4396-A122-3BFCA0E9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94A-D01E-485C-B2C3-FD84FEED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8578-1EDE-4251-9ADD-DC8E0F69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25A0-AFAE-4EA0-B764-3866818A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3560-2F51-49B8-A396-49382926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E7C4-5735-4A28-AE75-51DA0186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ED68-D4F2-4F47-9E4D-6F17CB79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5F48-AA90-4CC8-92C8-06F61B0B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409C-37FF-4F0B-97C8-E2D0701D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6A9E-EB69-4CA7-AE84-CF8C5161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2B5-9606-4C48-AF40-DF2215AA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1F7E-E0CD-49C6-83FF-4F0518DE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D8E5-F0EE-41CF-A014-78B71B15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8AA2-3134-42AF-9101-8FCA5460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3FA2-F99F-4725-AA5A-922470D9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B0D4-446C-4605-8534-4755BF8C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CCD5-52A7-42F1-971A-43890F10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CE1-97EE-410F-B6CB-2F02598C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2B30-3BAD-4064-8370-E7408589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AC9-7C1B-4C34-BF2D-005BA172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745-F4A0-473A-855F-AA3CB03F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D0F-E830-4FA4-8600-6A7C2836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D93-304A-44A0-994C-C354F55F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A13E-BCAA-4C8B-81FD-A17A92A979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95C7-18B3-4C04-A3FC-600CAF2F6E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4.png"/><Relationship Id="rId22" Type="http://schemas.openxmlformats.org/officeDocument/2006/relationships/image" Target="../media/image6.png"/><Relationship Id="rId23" Type="http://schemas.openxmlformats.org/officeDocument/2006/relationships/image" Target="../media/image4.png"/><Relationship Id="rId2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6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image" Target="../media/image4.png"/><Relationship Id="rId2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5—Characteristics of Acids and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7920" y="5792760"/>
            <a:ext cx="54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at we know what acids are, how do they a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binations of Concentration &amp; Streng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61000" y="2216160"/>
            <a:ext cx="2495520" cy="511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08320" y="2216160"/>
            <a:ext cx="2235240" cy="511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nt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08320" y="2873520"/>
            <a:ext cx="2235240" cy="158256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t of acid added &amp; most dissoci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61000" y="2873520"/>
            <a:ext cx="2495520" cy="158256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much acid added, but most of what’s there dissoci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13000" y="4751280"/>
            <a:ext cx="2235240" cy="168588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t of acid added, but most stays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65680" y="4751280"/>
            <a:ext cx="2495520" cy="168588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much acid added and most of what is there stays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9800" y="2855880"/>
            <a:ext cx="2235240" cy="1546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5160" y="4754520"/>
            <a:ext cx="2235240" cy="1654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57200" y="144144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same ideas apply to bases as well (concentration and streng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think all acids are dangerous and all bases are more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Vinegar is an acid we eat…some of them are saf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Sodium hydroxide is a very caustic base…not all of them are less harmful than acid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The stronger and acid or base is (and the more concentrated it is), the more dangerous it is for yo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160020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cale to measure the acidity of a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13080" y="3368520"/>
            <a:ext cx="8326080" cy="1714320"/>
            <a:chOff x="613080" y="3368520"/>
            <a:chExt cx="8326080" cy="1714320"/>
          </a:xfrm>
        </p:grpSpPr>
        <p:sp>
          <p:nvSpPr>
            <p:cNvPr id="294" name=""/>
            <p:cNvSpPr/>
            <p:nvPr/>
          </p:nvSpPr>
          <p:spPr>
            <a:xfrm>
              <a:off x="853920" y="3368520"/>
              <a:ext cx="7604280" cy="31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8520" y="3722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61560" y="37227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3080" y="4440240"/>
              <a:ext cx="145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ly acid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51640" y="4440240"/>
              <a:ext cx="148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y basic (not acid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25400" y="44402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u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15040" y="3722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653480" y="5538960"/>
            <a:ext cx="60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6 will give more detail about how pH is calcula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57200" y="160020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s change color based on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Liquid indicators – various indicators change colors at different pH’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Universal indicator – a combination of liquid indicators to produce a “rainbow” changing colors at several pH’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Paper with a liquid indicator on it (Litmus paper or pH pap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meters or pH pro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Electronically determine pH and give a read-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ys to measure 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mon pH indica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indicators" descr=""/>
          <p:cNvPicPr/>
          <p:nvPr/>
        </p:nvPicPr>
        <p:blipFill>
          <a:blip r:embed="rId1"/>
          <a:stretch/>
        </p:blipFill>
        <p:spPr>
          <a:xfrm>
            <a:off x="909720" y="1407960"/>
            <a:ext cx="6143400" cy="4586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955120" y="5897520"/>
            <a:ext cx="29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picture © 1998 David 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 of common subst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55640" y="2355840"/>
          <a:ext cx="3375000" cy="3684600"/>
        </p:xfrm>
        <a:graphic>
          <a:graphicData uri="http://schemas.openxmlformats.org/drawingml/2006/table">
            <a:tbl>
              <a:tblPr/>
              <a:tblGrid>
                <a:gridCol w="259704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2000" spc="-1" strike="noStrike">
                          <a:solidFill>
                            <a:srgbClr val="000099"/>
                          </a:solidFill>
                          <a:latin typeface="Gill Sans MT"/>
                        </a:rPr>
                        <a:t>SUB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2000" spc="-1" strike="noStrike">
                          <a:solidFill>
                            <a:srgbClr val="000099"/>
                          </a:solidFill>
                          <a:latin typeface="Gill Sans MT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M HC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tomach cont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inega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.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oda po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rap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umpkin pul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rea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.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135400" y="2346480"/>
          <a:ext cx="3414960" cy="3717720"/>
        </p:xfrm>
        <a:graphic>
          <a:graphicData uri="http://schemas.openxmlformats.org/drawingml/2006/table">
            <a:tbl>
              <a:tblPr/>
              <a:tblGrid>
                <a:gridCol w="2606760"/>
                <a:gridCol w="80820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testinal cont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.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il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.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ri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.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i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.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liv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loo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.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gg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.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M NH</a:t>
                      </a:r>
                      <a:r>
                        <a:rPr b="0" lang="en" sz="2100" spc="-1" strike="noStrike" baseline="-30000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(aq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.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M NaO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racteristics of Acids &amp; Ba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72160" y="2216160"/>
            <a:ext cx="3592440" cy="511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61920" y="2216160"/>
            <a:ext cx="3592440" cy="511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61920" y="2873520"/>
            <a:ext cx="3592440" cy="78876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ydronium ion)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72160" y="2873520"/>
            <a:ext cx="3592440" cy="78876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ydroxide ion)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66960" y="3782880"/>
            <a:ext cx="3592440" cy="87804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tes s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76840" y="3782880"/>
            <a:ext cx="3592440" cy="87804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tes Bi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42840" y="4792680"/>
            <a:ext cx="3592800" cy="87804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 with active metals to form hydrogen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53080" y="4792680"/>
            <a:ext cx="3592440" cy="87804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s slipp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 versus Concen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iew of how acids produce 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082240" y="2790720"/>
            <a:ext cx="967680" cy="1214280"/>
            <a:chOff x="2082240" y="2790720"/>
            <a:chExt cx="967680" cy="1214280"/>
          </a:xfrm>
        </p:grpSpPr>
        <p:sp>
          <p:nvSpPr>
            <p:cNvPr id="109" name=""/>
            <p:cNvSpPr/>
            <p:nvPr/>
          </p:nvSpPr>
          <p:spPr>
            <a:xfrm rot="255600">
              <a:off x="2095560" y="3493080"/>
              <a:ext cx="390240" cy="3711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55600">
              <a:off x="2301840" y="3124800"/>
              <a:ext cx="574560" cy="5263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55600">
              <a:off x="2646720" y="3533760"/>
              <a:ext cx="389880" cy="371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55600">
              <a:off x="2255760" y="3723120"/>
              <a:ext cx="183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55600">
              <a:off x="2361240" y="2796840"/>
              <a:ext cx="183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884200" y="3003480"/>
            <a:ext cx="1027800" cy="719280"/>
            <a:chOff x="5884200" y="3003480"/>
            <a:chExt cx="1027800" cy="719280"/>
          </a:xfrm>
        </p:grpSpPr>
        <p:sp>
          <p:nvSpPr>
            <p:cNvPr id="115" name=""/>
            <p:cNvSpPr/>
            <p:nvPr/>
          </p:nvSpPr>
          <p:spPr>
            <a:xfrm rot="255600">
              <a:off x="5897520" y="3200040"/>
              <a:ext cx="389160" cy="3715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62560" y="3110040"/>
              <a:ext cx="649440" cy="6127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12320" y="300348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194200" y="420372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65000" y="42465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48760" y="476244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cation with some a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2222E-006 L -0.18542 -0.06227 E">
                                      <p:cBhvr>
                                        <p:cTn id="7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7 L 0.1967 -3.7037E-007 E">
                                      <p:cBhvr>
                                        <p:cTn id="74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iew of how acids produce 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55600">
            <a:off x="4155840" y="2782800"/>
            <a:ext cx="185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877560" y="2759400"/>
            <a:ext cx="968040" cy="1231560"/>
            <a:chOff x="3877560" y="2759400"/>
            <a:chExt cx="968040" cy="1231560"/>
          </a:xfrm>
        </p:grpSpPr>
        <p:sp>
          <p:nvSpPr>
            <p:cNvPr id="124" name=""/>
            <p:cNvSpPr/>
            <p:nvPr/>
          </p:nvSpPr>
          <p:spPr>
            <a:xfrm rot="255600">
              <a:off x="3890880" y="3479400"/>
              <a:ext cx="390600" cy="3715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55600">
              <a:off x="4096800" y="3111480"/>
              <a:ext cx="574920" cy="525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5600">
              <a:off x="4441680" y="3519000"/>
              <a:ext cx="390600" cy="371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55600">
              <a:off x="4051080" y="3709800"/>
              <a:ext cx="1839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55600">
              <a:off x="4199040" y="2773080"/>
              <a:ext cx="388800" cy="3715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564080" y="2576520"/>
            <a:ext cx="649440" cy="719280"/>
            <a:chOff x="4564080" y="2576520"/>
            <a:chExt cx="649440" cy="719280"/>
          </a:xfrm>
        </p:grpSpPr>
        <p:sp>
          <p:nvSpPr>
            <p:cNvPr id="130" name=""/>
            <p:cNvSpPr/>
            <p:nvPr/>
          </p:nvSpPr>
          <p:spPr>
            <a:xfrm>
              <a:off x="4564080" y="2682720"/>
              <a:ext cx="649440" cy="6130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13480" y="257652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701880" y="27892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2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iew of how acids produce 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94800" y="2749680"/>
            <a:ext cx="968040" cy="1231560"/>
            <a:chOff x="1594800" y="2749680"/>
            <a:chExt cx="968040" cy="1231560"/>
          </a:xfrm>
        </p:grpSpPr>
        <p:sp>
          <p:nvSpPr>
            <p:cNvPr id="135" name=""/>
            <p:cNvSpPr/>
            <p:nvPr/>
          </p:nvSpPr>
          <p:spPr>
            <a:xfrm rot="255600">
              <a:off x="1608120" y="3469680"/>
              <a:ext cx="390600" cy="3715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55600">
              <a:off x="1814040" y="3101760"/>
              <a:ext cx="574920" cy="525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55600">
              <a:off x="2158920" y="3509280"/>
              <a:ext cx="390600" cy="371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55600">
              <a:off x="1768320" y="3700080"/>
              <a:ext cx="1839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55600">
              <a:off x="1916280" y="2763360"/>
              <a:ext cx="388800" cy="3715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419120" y="27795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837480" y="2581200"/>
            <a:ext cx="649080" cy="719280"/>
            <a:chOff x="6837480" y="2581200"/>
            <a:chExt cx="649080" cy="719280"/>
          </a:xfrm>
        </p:grpSpPr>
        <p:sp>
          <p:nvSpPr>
            <p:cNvPr id="142" name=""/>
            <p:cNvSpPr/>
            <p:nvPr/>
          </p:nvSpPr>
          <p:spPr>
            <a:xfrm>
              <a:off x="6837480" y="2687400"/>
              <a:ext cx="649080" cy="6130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86520" y="258120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191600" y="418788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nium 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9080" y="42465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ong versus Weak Aci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127160" y="3463560"/>
            <a:ext cx="1063800" cy="801720"/>
            <a:chOff x="1127160" y="3463560"/>
            <a:chExt cx="1063800" cy="801720"/>
          </a:xfrm>
        </p:grpSpPr>
        <p:grpSp>
          <p:nvGrpSpPr>
            <p:cNvPr id="148" name=""/>
            <p:cNvGrpSpPr/>
            <p:nvPr/>
          </p:nvGrpSpPr>
          <p:grpSpPr>
            <a:xfrm>
              <a:off x="1480320" y="3463560"/>
              <a:ext cx="710640" cy="711360"/>
              <a:chOff x="1480320" y="3463560"/>
              <a:chExt cx="710640" cy="711360"/>
            </a:xfrm>
          </p:grpSpPr>
          <p:sp>
            <p:nvSpPr>
              <p:cNvPr id="149" name=""/>
              <p:cNvSpPr/>
              <p:nvPr/>
            </p:nvSpPr>
            <p:spPr>
              <a:xfrm rot="13682400">
                <a:off x="1883520" y="3790800"/>
                <a:ext cx="258840" cy="24588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3682400">
                <a:off x="1546560" y="3741840"/>
                <a:ext cx="380880" cy="3492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25560">
                <a:solidFill>
                  <a:srgbClr val="f5d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3682400">
                <a:off x="1638720" y="3518640"/>
                <a:ext cx="258840" cy="2458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 rot="13682400">
              <a:off x="1416600" y="3963600"/>
              <a:ext cx="258840" cy="2462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3426800">
              <a:off x="1202040" y="384012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740960" y="2188800"/>
            <a:ext cx="654480" cy="942480"/>
            <a:chOff x="1740960" y="2188800"/>
            <a:chExt cx="654480" cy="942480"/>
          </a:xfrm>
        </p:grpSpPr>
        <p:grpSp>
          <p:nvGrpSpPr>
            <p:cNvPr id="155" name=""/>
            <p:cNvGrpSpPr/>
            <p:nvPr/>
          </p:nvGrpSpPr>
          <p:grpSpPr>
            <a:xfrm>
              <a:off x="1740960" y="2188800"/>
              <a:ext cx="654480" cy="573480"/>
              <a:chOff x="1740960" y="2188800"/>
              <a:chExt cx="654480" cy="573480"/>
            </a:xfrm>
          </p:grpSpPr>
          <p:sp>
            <p:nvSpPr>
              <p:cNvPr id="156" name=""/>
              <p:cNvSpPr/>
              <p:nvPr/>
            </p:nvSpPr>
            <p:spPr>
              <a:xfrm rot="10285200">
                <a:off x="2119680" y="2206440"/>
                <a:ext cx="258840" cy="2458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0285200">
                <a:off x="1908720" y="2386440"/>
                <a:ext cx="380880" cy="34920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25560">
                <a:solidFill>
                  <a:srgbClr val="f5d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0285200">
                <a:off x="1757880" y="2261160"/>
                <a:ext cx="258840" cy="2458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rot="10285200">
              <a:off x="2007360" y="2691000"/>
              <a:ext cx="258840" cy="2462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029600">
              <a:off x="1815120" y="276480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292840" y="3852720"/>
            <a:ext cx="699480" cy="853920"/>
            <a:chOff x="2292840" y="3852720"/>
            <a:chExt cx="699480" cy="853920"/>
          </a:xfrm>
        </p:grpSpPr>
        <p:grpSp>
          <p:nvGrpSpPr>
            <p:cNvPr id="162" name=""/>
            <p:cNvGrpSpPr/>
            <p:nvPr/>
          </p:nvGrpSpPr>
          <p:grpSpPr>
            <a:xfrm>
              <a:off x="2292840" y="4166280"/>
              <a:ext cx="641520" cy="540360"/>
              <a:chOff x="2292840" y="4166280"/>
              <a:chExt cx="641520" cy="540360"/>
            </a:xfrm>
          </p:grpSpPr>
          <p:sp>
            <p:nvSpPr>
              <p:cNvPr id="163" name=""/>
              <p:cNvSpPr/>
              <p:nvPr/>
            </p:nvSpPr>
            <p:spPr>
              <a:xfrm rot="255600">
                <a:off x="2301480" y="4424040"/>
                <a:ext cx="258840" cy="2458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55600">
                <a:off x="2437920" y="4179600"/>
                <a:ext cx="380880" cy="3492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25560">
                <a:solidFill>
                  <a:srgbClr val="f5d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55600">
                <a:off x="2666520" y="4451040"/>
                <a:ext cx="258840" cy="24588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 rot="255600">
              <a:off x="2518920" y="3976200"/>
              <a:ext cx="258840" cy="24624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92800" y="385272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942840" y="2176560"/>
            <a:ext cx="432000" cy="406440"/>
            <a:chOff x="942840" y="2176560"/>
            <a:chExt cx="432000" cy="406440"/>
          </a:xfrm>
        </p:grpSpPr>
        <p:sp>
          <p:nvSpPr>
            <p:cNvPr id="169" name=""/>
            <p:cNvSpPr/>
            <p:nvPr/>
          </p:nvSpPr>
          <p:spPr>
            <a:xfrm>
              <a:off x="942840" y="2176560"/>
              <a:ext cx="432000" cy="40644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03320" y="21780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200240" y="4457880"/>
            <a:ext cx="431640" cy="406080"/>
            <a:chOff x="1200240" y="4457880"/>
            <a:chExt cx="431640" cy="406080"/>
          </a:xfrm>
        </p:grpSpPr>
        <p:sp>
          <p:nvSpPr>
            <p:cNvPr id="172" name=""/>
            <p:cNvSpPr/>
            <p:nvPr/>
          </p:nvSpPr>
          <p:spPr>
            <a:xfrm>
              <a:off x="1200240" y="4457880"/>
              <a:ext cx="431640" cy="4060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60000" y="44589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857680" y="2379600"/>
            <a:ext cx="431640" cy="406440"/>
            <a:chOff x="2857680" y="2379600"/>
            <a:chExt cx="431640" cy="406440"/>
          </a:xfrm>
        </p:grpSpPr>
        <p:sp>
          <p:nvSpPr>
            <p:cNvPr id="175" name=""/>
            <p:cNvSpPr/>
            <p:nvPr/>
          </p:nvSpPr>
          <p:spPr>
            <a:xfrm>
              <a:off x="2857680" y="2379600"/>
              <a:ext cx="431640" cy="40644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17440" y="23810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386520" y="2689920"/>
            <a:ext cx="597960" cy="662040"/>
            <a:chOff x="3386520" y="2689920"/>
            <a:chExt cx="597960" cy="662040"/>
          </a:xfrm>
        </p:grpSpPr>
        <p:sp>
          <p:nvSpPr>
            <p:cNvPr id="178" name=""/>
            <p:cNvSpPr/>
            <p:nvPr/>
          </p:nvSpPr>
          <p:spPr>
            <a:xfrm rot="6122400">
              <a:off x="3480120" y="2718720"/>
              <a:ext cx="258840" cy="245880"/>
            </a:xfrm>
            <a:prstGeom prst="ellipse">
              <a:avLst/>
            </a:prstGeom>
            <a:blipFill rotWithShape="0">
              <a:blip r:embed="rId16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6122400">
              <a:off x="3583440" y="2889000"/>
              <a:ext cx="380880" cy="349200"/>
            </a:xfrm>
            <a:prstGeom prst="ellipse">
              <a:avLst/>
            </a:prstGeom>
            <a:blipFill rotWithShape="0">
              <a:blip r:embed="rId17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6122400">
              <a:off x="3404160" y="3076560"/>
              <a:ext cx="258840" cy="245880"/>
            </a:xfrm>
            <a:prstGeom prst="ellipse">
              <a:avLst/>
            </a:prstGeom>
            <a:blipFill rotWithShape="0">
              <a:blip r:embed="rId18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880920" y="2939400"/>
            <a:ext cx="593280" cy="660960"/>
            <a:chOff x="880920" y="2939400"/>
            <a:chExt cx="593280" cy="660960"/>
          </a:xfrm>
        </p:grpSpPr>
        <p:sp>
          <p:nvSpPr>
            <p:cNvPr id="182" name=""/>
            <p:cNvSpPr/>
            <p:nvPr/>
          </p:nvSpPr>
          <p:spPr>
            <a:xfrm rot="6080400">
              <a:off x="968760" y="2967120"/>
              <a:ext cx="258840" cy="245880"/>
            </a:xfrm>
            <a:prstGeom prst="ellipse">
              <a:avLst/>
            </a:prstGeom>
            <a:blipFill rotWithShape="0">
              <a:blip r:embed="rId19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6080400">
              <a:off x="1074960" y="3135600"/>
              <a:ext cx="380880" cy="349200"/>
            </a:xfrm>
            <a:prstGeom prst="ellipse">
              <a:avLst/>
            </a:prstGeom>
            <a:blipFill rotWithShape="0">
              <a:blip r:embed="rId20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080400">
              <a:off x="897120" y="3326040"/>
              <a:ext cx="258840" cy="245880"/>
            </a:xfrm>
            <a:prstGeom prst="ellipse">
              <a:avLst/>
            </a:prstGeom>
            <a:blipFill rotWithShape="0">
              <a:blip r:embed="rId2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558160" y="3228840"/>
            <a:ext cx="680400" cy="406440"/>
            <a:chOff x="2558160" y="3228840"/>
            <a:chExt cx="680400" cy="406440"/>
          </a:xfrm>
        </p:grpSpPr>
        <p:sp>
          <p:nvSpPr>
            <p:cNvPr id="186" name=""/>
            <p:cNvSpPr/>
            <p:nvPr/>
          </p:nvSpPr>
          <p:spPr>
            <a:xfrm>
              <a:off x="2806920" y="3228840"/>
              <a:ext cx="431640" cy="406440"/>
            </a:xfrm>
            <a:prstGeom prst="ellipse">
              <a:avLst/>
            </a:prstGeom>
            <a:blipFill rotWithShape="0">
              <a:blip r:embed="rId22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55600">
              <a:off x="2566800" y="3320640"/>
              <a:ext cx="258840" cy="245880"/>
            </a:xfrm>
            <a:prstGeom prst="ellipse">
              <a:avLst/>
            </a:prstGeom>
            <a:blipFill rotWithShape="0">
              <a:blip r:embed="rId23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73280" y="2038320"/>
            <a:ext cx="3279600" cy="288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82640" y="5019840"/>
            <a:ext cx="3240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trong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ost of the acid molecules have donated the H</a:t>
            </a:r>
            <a:r>
              <a:rPr b="0" lang="en-US" sz="1800" spc="-1" strike="noStrike" baseline="30000">
                <a:solidFill>
                  <a:srgbClr val="80808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to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08440" y="2093760"/>
            <a:ext cx="38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hydronium ion – anion pairs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24280" y="3763800"/>
            <a:ext cx="38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intact acid molecules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74000" y="2984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85160" y="4614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5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5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500" fill="hold"/>
                                        <p:tgtEl>
                                          <p:spTgt spid="154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500" fill="hold"/>
                                        <p:tgtEl>
                                          <p:spTgt spid="174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5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" dur="5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500" fill="hold"/>
                                        <p:tgtEl>
                                          <p:spTgt spid="168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5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5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500" fill="hold"/>
                                        <p:tgtEl>
                                          <p:spTgt spid="171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500" fill="hold"/>
                                        <p:tgtEl>
                                          <p:spTgt spid="161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5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ong versus Weak Aci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821920" y="1992240"/>
            <a:ext cx="699480" cy="853920"/>
            <a:chOff x="5821920" y="1992240"/>
            <a:chExt cx="699480" cy="853920"/>
          </a:xfrm>
        </p:grpSpPr>
        <p:grpSp>
          <p:nvGrpSpPr>
            <p:cNvPr id="196" name=""/>
            <p:cNvGrpSpPr/>
            <p:nvPr/>
          </p:nvGrpSpPr>
          <p:grpSpPr>
            <a:xfrm>
              <a:off x="5821920" y="2305800"/>
              <a:ext cx="641520" cy="540360"/>
              <a:chOff x="5821920" y="2305800"/>
              <a:chExt cx="641520" cy="540360"/>
            </a:xfrm>
          </p:grpSpPr>
          <p:sp>
            <p:nvSpPr>
              <p:cNvPr id="197" name=""/>
              <p:cNvSpPr/>
              <p:nvPr/>
            </p:nvSpPr>
            <p:spPr>
              <a:xfrm rot="255600">
                <a:off x="5830560" y="2563560"/>
                <a:ext cx="258840" cy="24588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255600">
                <a:off x="5967000" y="2319120"/>
                <a:ext cx="380880" cy="3492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25560">
                <a:solidFill>
                  <a:srgbClr val="f5d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255600">
                <a:off x="6195600" y="2590560"/>
                <a:ext cx="258840" cy="2458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 rot="255600">
              <a:off x="6048000" y="2115720"/>
              <a:ext cx="258840" cy="2462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21880" y="199224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127920" y="3708360"/>
            <a:ext cx="431640" cy="406440"/>
            <a:chOff x="6127920" y="3708360"/>
            <a:chExt cx="431640" cy="406440"/>
          </a:xfrm>
        </p:grpSpPr>
        <p:sp>
          <p:nvSpPr>
            <p:cNvPr id="203" name=""/>
            <p:cNvSpPr/>
            <p:nvPr/>
          </p:nvSpPr>
          <p:spPr>
            <a:xfrm>
              <a:off x="6127920" y="3708360"/>
              <a:ext cx="431640" cy="4064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87680" y="3709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746480" y="2084400"/>
            <a:ext cx="712080" cy="712440"/>
            <a:chOff x="7746480" y="2084400"/>
            <a:chExt cx="712080" cy="712440"/>
          </a:xfrm>
        </p:grpSpPr>
        <p:sp>
          <p:nvSpPr>
            <p:cNvPr id="206" name=""/>
            <p:cNvSpPr/>
            <p:nvPr/>
          </p:nvSpPr>
          <p:spPr>
            <a:xfrm rot="13552800">
              <a:off x="8150760" y="2402640"/>
              <a:ext cx="258840" cy="2458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3552800">
              <a:off x="7813800" y="2363760"/>
              <a:ext cx="380880" cy="34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3552800">
              <a:off x="7895880" y="2139840"/>
              <a:ext cx="258840" cy="2458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402960" y="2786760"/>
            <a:ext cx="676800" cy="677880"/>
            <a:chOff x="6402960" y="2786760"/>
            <a:chExt cx="676800" cy="677880"/>
          </a:xfrm>
        </p:grpSpPr>
        <p:sp>
          <p:nvSpPr>
            <p:cNvPr id="210" name=""/>
            <p:cNvSpPr/>
            <p:nvPr/>
          </p:nvSpPr>
          <p:spPr>
            <a:xfrm rot="12420600">
              <a:off x="6779160" y="2998080"/>
              <a:ext cx="258840" cy="24588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2420600">
              <a:off x="6461280" y="3047760"/>
              <a:ext cx="380880" cy="34920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2420600">
              <a:off x="6452640" y="2831760"/>
              <a:ext cx="258840" cy="24588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695000" y="3159000"/>
            <a:ext cx="680400" cy="406440"/>
            <a:chOff x="7695000" y="3159000"/>
            <a:chExt cx="680400" cy="406440"/>
          </a:xfrm>
        </p:grpSpPr>
        <p:sp>
          <p:nvSpPr>
            <p:cNvPr id="214" name=""/>
            <p:cNvSpPr/>
            <p:nvPr/>
          </p:nvSpPr>
          <p:spPr>
            <a:xfrm>
              <a:off x="7943760" y="3159000"/>
              <a:ext cx="431640" cy="40644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55600">
              <a:off x="7703640" y="3250800"/>
              <a:ext cx="258840" cy="24588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907680" y="2462040"/>
            <a:ext cx="680400" cy="406440"/>
            <a:chOff x="6907680" y="2462040"/>
            <a:chExt cx="680400" cy="406440"/>
          </a:xfrm>
        </p:grpSpPr>
        <p:sp>
          <p:nvSpPr>
            <p:cNvPr id="217" name=""/>
            <p:cNvSpPr/>
            <p:nvPr/>
          </p:nvSpPr>
          <p:spPr>
            <a:xfrm>
              <a:off x="7156440" y="2462040"/>
              <a:ext cx="431640" cy="40644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55600">
              <a:off x="6916320" y="2553840"/>
              <a:ext cx="258840" cy="24588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710760" y="3481560"/>
            <a:ext cx="680400" cy="406080"/>
            <a:chOff x="6710760" y="3481560"/>
            <a:chExt cx="680400" cy="406080"/>
          </a:xfrm>
        </p:grpSpPr>
        <p:sp>
          <p:nvSpPr>
            <p:cNvPr id="220" name=""/>
            <p:cNvSpPr/>
            <p:nvPr/>
          </p:nvSpPr>
          <p:spPr>
            <a:xfrm>
              <a:off x="6959520" y="3481560"/>
              <a:ext cx="431640" cy="406080"/>
            </a:xfrm>
            <a:prstGeom prst="ellipse">
              <a:avLst/>
            </a:prstGeom>
            <a:blipFill rotWithShape="0">
              <a:blip r:embed="rId16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255600">
              <a:off x="6719400" y="3573000"/>
              <a:ext cx="258840" cy="245520"/>
            </a:xfrm>
            <a:prstGeom prst="ellipse">
              <a:avLst/>
            </a:prstGeom>
            <a:blipFill rotWithShape="0">
              <a:blip r:embed="rId17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7543800" y="3916800"/>
            <a:ext cx="573840" cy="654840"/>
            <a:chOff x="7543800" y="3916800"/>
            <a:chExt cx="573840" cy="654840"/>
          </a:xfrm>
        </p:grpSpPr>
        <p:sp>
          <p:nvSpPr>
            <p:cNvPr id="223" name=""/>
            <p:cNvSpPr/>
            <p:nvPr/>
          </p:nvSpPr>
          <p:spPr>
            <a:xfrm rot="4884000">
              <a:off x="7554960" y="3940200"/>
              <a:ext cx="258840" cy="245880"/>
            </a:xfrm>
            <a:prstGeom prst="ellipse">
              <a:avLst/>
            </a:prstGeom>
            <a:blipFill rotWithShape="0">
              <a:blip r:embed="rId18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4884000">
              <a:off x="7725960" y="4038120"/>
              <a:ext cx="380880" cy="349200"/>
            </a:xfrm>
            <a:prstGeom prst="ellipse">
              <a:avLst/>
            </a:prstGeom>
            <a:blipFill rotWithShape="0">
              <a:blip r:embed="rId19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4884000">
              <a:off x="7610040" y="4302360"/>
              <a:ext cx="258840" cy="245880"/>
            </a:xfrm>
            <a:prstGeom prst="ellipse">
              <a:avLst/>
            </a:prstGeom>
            <a:blipFill rotWithShape="0">
              <a:blip r:embed="rId20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754240" y="4221360"/>
            <a:ext cx="711000" cy="710640"/>
            <a:chOff x="5754240" y="4221360"/>
            <a:chExt cx="711000" cy="710640"/>
          </a:xfrm>
        </p:grpSpPr>
        <p:sp>
          <p:nvSpPr>
            <p:cNvPr id="227" name=""/>
            <p:cNvSpPr/>
            <p:nvPr/>
          </p:nvSpPr>
          <p:spPr>
            <a:xfrm rot="18692400">
              <a:off x="5915160" y="4630320"/>
              <a:ext cx="258840" cy="245880"/>
            </a:xfrm>
            <a:prstGeom prst="ellipse">
              <a:avLst/>
            </a:prstGeom>
            <a:blipFill rotWithShape="0">
              <a:blip r:embed="rId2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8692400">
              <a:off x="5820480" y="4304880"/>
              <a:ext cx="380880" cy="349200"/>
            </a:xfrm>
            <a:prstGeom prst="ellipse">
              <a:avLst/>
            </a:prstGeom>
            <a:blipFill rotWithShape="0">
              <a:blip r:embed="rId22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8692400">
              <a:off x="6157800" y="4356360"/>
              <a:ext cx="258840" cy="245880"/>
            </a:xfrm>
            <a:prstGeom prst="ellipse">
              <a:avLst/>
            </a:prstGeom>
            <a:blipFill rotWithShape="0">
              <a:blip r:embed="rId23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05480" y="2033640"/>
            <a:ext cx="3279600" cy="28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33920" y="4927680"/>
            <a:ext cx="32403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Weak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Only a few of the acid molecules have donated the H</a:t>
            </a:r>
            <a:r>
              <a:rPr b="0" lang="en-US" sz="1800" spc="-1" strike="noStrike" baseline="30000">
                <a:solidFill>
                  <a:srgbClr val="80808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to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5640" y="2093760"/>
            <a:ext cx="38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hydronium ion – anion pairs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71480" y="3763800"/>
            <a:ext cx="38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intact acid molecules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21200" y="2984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32360" y="4614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5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5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500" fill="hold"/>
                                        <p:tgtEl>
                                          <p:spTgt spid="202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5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5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500" fill="hold"/>
                                        <p:tgtEl>
                                          <p:spTgt spid="219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2" dur="5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500" fill="hold"/>
                                        <p:tgtEl>
                                          <p:spTgt spid="213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entrated versus Dilu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920880" y="2706840"/>
            <a:ext cx="2514240" cy="1692000"/>
            <a:chOff x="920880" y="2706840"/>
            <a:chExt cx="2514240" cy="1692000"/>
          </a:xfrm>
        </p:grpSpPr>
        <p:sp>
          <p:nvSpPr>
            <p:cNvPr id="238" name=""/>
            <p:cNvSpPr/>
            <p:nvPr/>
          </p:nvSpPr>
          <p:spPr>
            <a:xfrm>
              <a:off x="925560" y="2821320"/>
              <a:ext cx="496080" cy="3675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d668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20880" y="3079080"/>
              <a:ext cx="501120" cy="453240"/>
            </a:xfrm>
            <a:prstGeom prst="can">
              <a:avLst>
                <a:gd name="adj" fmla="val 25000"/>
              </a:avLst>
            </a:prstGeom>
            <a:solidFill>
              <a:srgbClr val="d66846"/>
            </a:solidFill>
            <a:ln w="9360">
              <a:solidFill>
                <a:srgbClr val="e9ae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46280" y="2706840"/>
              <a:ext cx="1788840" cy="1692000"/>
            </a:xfrm>
            <a:prstGeom prst="wedgeRectCallout">
              <a:avLst>
                <a:gd name="adj1" fmla="val -78189"/>
                <a:gd name="adj2" fmla="val -1411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92800" y="2832480"/>
              <a:ext cx="353160" cy="334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38040" y="2982240"/>
              <a:ext cx="353160" cy="334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71920" y="2764800"/>
              <a:ext cx="353160" cy="3340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64600" y="3170880"/>
              <a:ext cx="353160" cy="3340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06320" y="3411000"/>
              <a:ext cx="353160" cy="3340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37080" y="3380760"/>
              <a:ext cx="353160" cy="3340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25080" y="3711240"/>
              <a:ext cx="353160" cy="3340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76200" y="3862440"/>
              <a:ext cx="353160" cy="3340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60960" y="3711960"/>
              <a:ext cx="353160" cy="3344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93520" y="3696840"/>
              <a:ext cx="352800" cy="33408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78880" y="3141360"/>
              <a:ext cx="353160" cy="33408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48240" y="3992040"/>
              <a:ext cx="353160" cy="33408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27640" y="3127680"/>
              <a:ext cx="352800" cy="33408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913360" y="2701800"/>
            <a:ext cx="2514240" cy="1692360"/>
            <a:chOff x="5913360" y="2701800"/>
            <a:chExt cx="2514240" cy="1692360"/>
          </a:xfrm>
        </p:grpSpPr>
        <p:sp>
          <p:nvSpPr>
            <p:cNvPr id="255" name=""/>
            <p:cNvSpPr/>
            <p:nvPr/>
          </p:nvSpPr>
          <p:spPr>
            <a:xfrm>
              <a:off x="5918040" y="2816280"/>
              <a:ext cx="496080" cy="3675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d668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13360" y="3074400"/>
              <a:ext cx="501120" cy="453600"/>
            </a:xfrm>
            <a:prstGeom prst="can">
              <a:avLst>
                <a:gd name="adj" fmla="val 25000"/>
              </a:avLst>
            </a:prstGeom>
            <a:solidFill>
              <a:srgbClr val="d66846"/>
            </a:solidFill>
            <a:ln w="9360">
              <a:solidFill>
                <a:srgbClr val="e9ae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38760" y="2701800"/>
              <a:ext cx="1788840" cy="1692360"/>
            </a:xfrm>
            <a:prstGeom prst="wedgeRectCallout">
              <a:avLst>
                <a:gd name="adj1" fmla="val -78189"/>
                <a:gd name="adj2" fmla="val -1411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33560" y="2818440"/>
              <a:ext cx="352800" cy="3340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56480" y="3022560"/>
              <a:ext cx="353160" cy="33408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49880" y="3232440"/>
              <a:ext cx="353160" cy="334080"/>
            </a:xfrm>
            <a:prstGeom prst="ellipse">
              <a:avLst/>
            </a:prstGeom>
            <a:blipFill rotWithShape="0">
              <a:blip r:embed="rId16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02360" y="2999160"/>
              <a:ext cx="353160" cy="334080"/>
            </a:xfrm>
            <a:prstGeom prst="ellipse">
              <a:avLst/>
            </a:prstGeom>
            <a:blipFill rotWithShape="0">
              <a:blip r:embed="rId17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52680" y="3517560"/>
              <a:ext cx="353160" cy="334080"/>
            </a:xfrm>
            <a:prstGeom prst="ellipse">
              <a:avLst/>
            </a:prstGeom>
            <a:blipFill rotWithShape="0">
              <a:blip r:embed="rId18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04640" y="3976920"/>
              <a:ext cx="353160" cy="334080"/>
            </a:xfrm>
            <a:prstGeom prst="ellipse">
              <a:avLst/>
            </a:prstGeom>
            <a:blipFill rotWithShape="0">
              <a:blip r:embed="rId19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59680" y="3564000"/>
              <a:ext cx="353160" cy="334080"/>
            </a:xfrm>
            <a:prstGeom prst="ellipse">
              <a:avLst/>
            </a:prstGeom>
            <a:blipFill rotWithShape="0">
              <a:blip r:embed="rId20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48560" y="3526200"/>
              <a:ext cx="353160" cy="334080"/>
            </a:xfrm>
            <a:prstGeom prst="ellipse">
              <a:avLst/>
            </a:prstGeom>
            <a:blipFill rotWithShape="0">
              <a:blip r:embed="rId21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86480" y="3165840"/>
              <a:ext cx="353160" cy="334080"/>
            </a:xfrm>
            <a:prstGeom prst="ellipse">
              <a:avLst/>
            </a:prstGeom>
            <a:blipFill rotWithShape="0">
              <a:blip r:embed="rId22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55840" y="4016880"/>
              <a:ext cx="353160" cy="334080"/>
            </a:xfrm>
            <a:prstGeom prst="ellipse">
              <a:avLst/>
            </a:prstGeom>
            <a:blipFill rotWithShape="0">
              <a:blip r:embed="rId23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34880" y="3152160"/>
              <a:ext cx="353160" cy="334080"/>
            </a:xfrm>
            <a:prstGeom prst="ellipse">
              <a:avLst/>
            </a:prstGeom>
            <a:blipFill rotWithShape="0">
              <a:blip r:embed="rId24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55120" y="3911040"/>
              <a:ext cx="353160" cy="334080"/>
            </a:xfrm>
            <a:prstGeom prst="ellipse">
              <a:avLst/>
            </a:prstGeom>
            <a:blipFill rotWithShape="0">
              <a:blip r:embed="rId25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35720" y="3828240"/>
              <a:ext cx="353160" cy="334080"/>
            </a:xfrm>
            <a:prstGeom prst="ellipse">
              <a:avLst/>
            </a:prstGeom>
            <a:blipFill rotWithShape="0">
              <a:blip r:embed="rId26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21200" y="3580560"/>
              <a:ext cx="353160" cy="334080"/>
            </a:xfrm>
            <a:prstGeom prst="ellipse">
              <a:avLst/>
            </a:prstGeom>
            <a:blipFill rotWithShape="0">
              <a:blip r:embed="rId27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860640" y="1622520"/>
            <a:ext cx="1681200" cy="679320"/>
            <a:chOff x="3860640" y="1622520"/>
            <a:chExt cx="1681200" cy="679320"/>
          </a:xfrm>
        </p:grpSpPr>
        <p:sp>
          <p:nvSpPr>
            <p:cNvPr id="273" name=""/>
            <p:cNvSpPr/>
            <p:nvPr/>
          </p:nvSpPr>
          <p:spPr>
            <a:xfrm>
              <a:off x="3860640" y="1635120"/>
              <a:ext cx="704880" cy="666720"/>
            </a:xfrm>
            <a:prstGeom prst="ellipse">
              <a:avLst/>
            </a:prstGeom>
            <a:blipFill rotWithShape="0">
              <a:blip r:embed="rId28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36960" y="1622520"/>
              <a:ext cx="704880" cy="666720"/>
            </a:xfrm>
            <a:prstGeom prst="ellipse">
              <a:avLst/>
            </a:prstGeom>
            <a:blipFill rotWithShape="0">
              <a:blip r:embed="rId29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913840" y="18288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39480" y="17604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47880" y="4756320"/>
            <a:ext cx="3249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Lower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Not as many solute (what’s being dissolved)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32560" y="4759200"/>
            <a:ext cx="3249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igher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ore solute (what’s being dissolved)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19:36:13Z</dcterms:created>
  <dc:creator>Luke H Deters</dc:creator>
  <dc:description/>
  <dc:language>en-US</dc:language>
  <cp:lastModifiedBy>detersk</cp:lastModifiedBy>
  <dcterms:modified xsi:type="dcterms:W3CDTF">2006-09-25T13:31:57Z</dcterms:modified>
  <cp:revision>13</cp:revision>
  <dc:subject/>
  <dc:title>Chemistry You Need to Know</dc:title>
</cp:coreProperties>
</file>